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9BDA-A4CE-467E-AFC9-FF206B9FA2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8CD4-B219-4DFA-B21E-A291F6816D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CD6-2737-4B13-B4A3-AE31C007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689-D5E2-496B-8489-068E0B32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ECF-CE1F-42B5-8FF2-3636574C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85B-79CD-48AB-BF0E-D6D622E6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0D3-2935-491B-BA8A-BD43FED4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073-FBA3-4505-A655-6EE0D740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FBC-0D2F-4993-ADCC-1C6D6A65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284-1443-42D9-8145-4895211C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4D6-DDA2-4F49-A75C-C796DA5D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7C0-5A28-404A-9F93-988044BB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0D2-7429-4C9C-8F28-D54D11E5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799-7950-4801-8369-364ACCA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A403-E896-4A4F-A071-DFB3BFA19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D:\Академия управления\2025\ЗДОРОВАЯ НАЦИЯ\info_map_2_1x.jpg.jpg"/>
          <p:cNvPicPr/>
          <p:nvPr/>
        </p:nvPicPr>
        <p:blipFill>
          <a:blip r:embed="rId1"/>
          <a:srcRect l="0" t="0" r="33" b="0"/>
          <a:stretch/>
        </p:blipFill>
        <p:spPr>
          <a:xfrm>
            <a:off x="-60480" y="0"/>
            <a:ext cx="4127760" cy="514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Академия управления\фото1\фон.jpg"/>
          <p:cNvPicPr/>
          <p:nvPr/>
        </p:nvPicPr>
        <p:blipFill>
          <a:blip r:embed="rId2"/>
          <a:stretch/>
        </p:blipFill>
        <p:spPr>
          <a:xfrm>
            <a:off x="5423040" y="0"/>
            <a:ext cx="372096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9"/>
          <p:cNvSpPr/>
          <p:nvPr/>
        </p:nvSpPr>
        <p:spPr>
          <a:xfrm>
            <a:off x="3492360" y="630360"/>
            <a:ext cx="5245200" cy="22287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1"/>
          <p:cNvSpPr/>
          <p:nvPr/>
        </p:nvSpPr>
        <p:spPr>
          <a:xfrm>
            <a:off x="4216320" y="936720"/>
            <a:ext cx="4411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ЗДОРОВАЯ НАЦИЯ </a:t>
            </a:r>
            <a:br>
              <a:rPr sz="3300"/>
            </a:b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КАК ОСНОВА РАЗВИТИЯ БЕЛАРУС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2"/>
          <p:cNvSpPr/>
          <p:nvPr/>
        </p:nvSpPr>
        <p:spPr>
          <a:xfrm>
            <a:off x="3708360" y="884160"/>
            <a:ext cx="17928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3"/>
          <p:cNvSpPr/>
          <p:nvPr/>
        </p:nvSpPr>
        <p:spPr>
          <a:xfrm rot="5400000">
            <a:off x="306360" y="4211640"/>
            <a:ext cx="180720" cy="9144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6"/>
          <p:cNvSpPr/>
          <p:nvPr/>
        </p:nvSpPr>
        <p:spPr>
          <a:xfrm>
            <a:off x="3959280" y="4192560"/>
            <a:ext cx="108000" cy="9540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8"/>
          <p:cNvSpPr/>
          <p:nvPr/>
        </p:nvSpPr>
        <p:spPr>
          <a:xfrm>
            <a:off x="4176720" y="2932200"/>
            <a:ext cx="4498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Единый день </a:t>
            </a:r>
            <a:br>
              <a:rPr sz="2300"/>
            </a:b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информирования населения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6630840" y="4484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й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1069920" y="7700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222200" y="922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374840" y="10746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1527120" y="12272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1679400" y="1379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1832040" y="1531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1984320" y="1684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2136600" y="18367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2289240" y="1989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611280" y="411120"/>
            <a:ext cx="4416480" cy="43880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973080" y="658800"/>
            <a:ext cx="388620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БЩЕРЕСПУБЛИКАНСКАЯ АКЦИЯ «ДАЙ ЛЕСУ НОВАЕ ЖЫЦЦЁ»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br>
              <a:rPr sz="2000"/>
            </a:b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ачало которой было положено в 2024 году Президентом Республики Беларусь А.Г.Лукашенко, уже второй год объединяет всех неравнодушных граждан, помогающих лесхозам восстановить белорусские лес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7"/>
          <p:cNvSpPr/>
          <p:nvPr/>
        </p:nvSpPr>
        <p:spPr>
          <a:xfrm rot="5400000">
            <a:off x="8557560" y="25200"/>
            <a:ext cx="200160" cy="9716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1150920" y="32925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2025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сстановлено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оле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4 тыс. г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есных насажд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сажено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коло 40 млн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сажен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3"/>
          <p:cNvSpPr/>
          <p:nvPr/>
        </p:nvSpPr>
        <p:spPr>
          <a:xfrm>
            <a:off x="1042920" y="3724200"/>
            <a:ext cx="144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14"/>
          <p:cNvSpPr/>
          <p:nvPr/>
        </p:nvSpPr>
        <p:spPr>
          <a:xfrm>
            <a:off x="1042920" y="4229280"/>
            <a:ext cx="144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6"/>
          <p:cNvSpPr/>
          <p:nvPr/>
        </p:nvSpPr>
        <p:spPr>
          <a:xfrm>
            <a:off x="1042920" y="3705120"/>
            <a:ext cx="144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ая соединительная линия 2"/>
          <p:cNvSpPr/>
          <p:nvPr/>
        </p:nvSpPr>
        <p:spPr>
          <a:xfrm>
            <a:off x="973080" y="3147840"/>
            <a:ext cx="374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5219640" y="3579840"/>
            <a:ext cx="3780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ffffff"/>
                </a:solidFill>
                <a:latin typeface="Calibri"/>
              </a:rPr>
              <a:t>В текущем году мероприятие проходило под эгидой Года благоустройства и </a:t>
            </a:r>
            <a:br>
              <a:rPr sz="1500"/>
            </a:br>
            <a:r>
              <a:rPr b="0" i="1" lang="ru-RU" sz="1500" spc="-1" strike="noStrike">
                <a:solidFill>
                  <a:srgbClr val="ffffff"/>
                </a:solidFill>
                <a:latin typeface="Calibri"/>
              </a:rPr>
              <a:t>80-летия Победы советского народа </a:t>
            </a:r>
            <a:br>
              <a:rPr sz="1500"/>
            </a:br>
            <a:r>
              <a:rPr b="0" i="1" lang="ru-RU" sz="1500" spc="-1" strike="noStrike">
                <a:solidFill>
                  <a:srgbClr val="ffffff"/>
                </a:solidFill>
                <a:latin typeface="Calibri"/>
              </a:rPr>
              <a:t>в Великой Отечественной вой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7"/>
          <p:cNvSpPr/>
          <p:nvPr/>
        </p:nvSpPr>
        <p:spPr>
          <a:xfrm rot="10800000">
            <a:off x="244440" y="4803840"/>
            <a:ext cx="200160" cy="349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8"/>
          <p:cNvSpPr/>
          <p:nvPr/>
        </p:nvSpPr>
        <p:spPr>
          <a:xfrm rot="5400000">
            <a:off x="8613720" y="2251080"/>
            <a:ext cx="200160" cy="8604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96880" y="339840"/>
            <a:ext cx="854712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МИРОВОМ РЕЙТИНГЕ ПО ИНДЕКСУ ЭКОЛОГИЧЕСКОЙ ЭФФЕКТИВНОСТ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(EPI, ENVIRONMENTAL PERFORMANCE INDEX) </a:t>
            </a:r>
            <a:br>
              <a:rPr sz="2800"/>
            </a:b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Беларусь поднялась на </a:t>
            </a: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32-е</a:t>
            </a: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место из </a:t>
            </a: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180</a:t>
            </a: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 стран мира (2024 го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20520" y="-165240"/>
            <a:ext cx="9144000" cy="53089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5"/>
          <p:cNvSpPr/>
          <p:nvPr/>
        </p:nvSpPr>
        <p:spPr>
          <a:xfrm>
            <a:off x="5292720" y="0"/>
            <a:ext cx="3852720" cy="5159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8"/>
          <p:cNvSpPr/>
          <p:nvPr/>
        </p:nvSpPr>
        <p:spPr>
          <a:xfrm rot="5400000">
            <a:off x="347040" y="4291920"/>
            <a:ext cx="18072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9"/>
          <p:cNvSpPr/>
          <p:nvPr/>
        </p:nvSpPr>
        <p:spPr>
          <a:xfrm>
            <a:off x="971640" y="0"/>
            <a:ext cx="34596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5769000" y="339840"/>
            <a:ext cx="3159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ВОДНЫЕ РЕСУРСЫ БЕЛАРУС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считывается свыше 20 тыс. водотоков и 10 тыс. озер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 тыс. прудо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87 водохранилищ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щая площадь водных объектов – 4,6 тыс. км² (2,2% территории). Запасы воды – 61,2 млрд м³ (подземные – 2,3 млрд м³, поверхностные – 58,9 млрд м³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пользуется незначительная их ча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250920" y="3984480"/>
            <a:ext cx="50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ответствует среднеевропейскому уров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1116000" y="830160"/>
            <a:ext cx="7077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182c7f"/>
                </a:solidFill>
                <a:latin typeface="Calibri"/>
              </a:rPr>
              <a:t>Обеспечить мегаполис почти в два миллиона человек артезианской водой – это величайший подвиг нашего поколения. Мало кто, да вообще я не знаю таких государств, которые бы с заботой о людях подошли к этому вопросу... Это большое дел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79280" y="-236520"/>
            <a:ext cx="84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0" spc="-1" strike="noStrike">
                <a:solidFill>
                  <a:srgbClr val="182c7f"/>
                </a:solidFill>
                <a:latin typeface="Calibri"/>
              </a:rPr>
              <a:t>“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8"/>
          <p:cNvSpPr/>
          <p:nvPr/>
        </p:nvSpPr>
        <p:spPr>
          <a:xfrm rot="10800000">
            <a:off x="7837200" y="1874520"/>
            <a:ext cx="101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0" spc="-1" strike="noStrike">
                <a:solidFill>
                  <a:srgbClr val="182c7f"/>
                </a:solidFill>
                <a:latin typeface="Calibri"/>
              </a:rPr>
              <a:t>“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14"/>
          <p:cNvSpPr/>
          <p:nvPr/>
        </p:nvSpPr>
        <p:spPr>
          <a:xfrm rot="5400000">
            <a:off x="8346600" y="3954240"/>
            <a:ext cx="295200" cy="12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1160640" y="3846600"/>
            <a:ext cx="643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182c7f"/>
                </a:solidFill>
                <a:latin typeface="Calibri"/>
              </a:rPr>
              <a:t>Президент Республики Беларусь А.Г.Лукашенко. </a:t>
            </a:r>
            <a:br>
              <a:rPr sz="1400"/>
            </a:br>
            <a:r>
              <a:rPr b="0" i="1" lang="ru-RU" sz="1400" spc="-1" strike="noStrike">
                <a:solidFill>
                  <a:srgbClr val="182c7f"/>
                </a:solidFill>
                <a:latin typeface="Calibri"/>
              </a:rPr>
              <a:t>Участие в торжественном пуске артезианской воды из подземных источников для обеспечения водоснабжения г.Минска, </a:t>
            </a:r>
            <a:br>
              <a:rPr sz="1400"/>
            </a:br>
            <a:r>
              <a:rPr b="0" i="1" lang="ru-RU" sz="1400" spc="-1" strike="noStrike">
                <a:solidFill>
                  <a:srgbClr val="182c7f"/>
                </a:solidFill>
                <a:latin typeface="Calibri"/>
              </a:rPr>
              <a:t>15 января 2025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7"/>
          <p:cNvSpPr/>
          <p:nvPr/>
        </p:nvSpPr>
        <p:spPr>
          <a:xfrm rot="10800000">
            <a:off x="244440" y="4803840"/>
            <a:ext cx="200160" cy="349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8"/>
          <p:cNvSpPr/>
          <p:nvPr/>
        </p:nvSpPr>
        <p:spPr>
          <a:xfrm rot="5400000">
            <a:off x="8613720" y="2251080"/>
            <a:ext cx="200160" cy="8604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39640" y="339840"/>
            <a:ext cx="5054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БЕСПЕЧЕНИЕ КАЧЕСТВЕННОЙ ПИТЬЕВОЙ ВОДОЙ В БЕЛАРУ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1"/>
          <p:cNvSpPr/>
          <p:nvPr/>
        </p:nvSpPr>
        <p:spPr>
          <a:xfrm>
            <a:off x="738360" y="1143000"/>
            <a:ext cx="5273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 2016 года реализованы масштабные проекты по улучшению водоснаб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строено 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1 432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станции обезжелези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бурено 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71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скваж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91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населенный пункт переподключен к централизованным систем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593640" y="2108160"/>
            <a:ext cx="144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593640" y="2463840"/>
            <a:ext cx="144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11"/>
          <p:cNvSpPr/>
          <p:nvPr/>
        </p:nvSpPr>
        <p:spPr>
          <a:xfrm>
            <a:off x="593640" y="2787480"/>
            <a:ext cx="144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601200" y="3508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ТОГИ 2024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12"/>
          <p:cNvSpPr/>
          <p:nvPr/>
        </p:nvSpPr>
        <p:spPr>
          <a:xfrm>
            <a:off x="579600" y="3873600"/>
            <a:ext cx="3487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99,2%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насел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,4 млн человек) обеспечены качественной питьевой вод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13"/>
          <p:cNvSpPr/>
          <p:nvPr/>
        </p:nvSpPr>
        <p:spPr>
          <a:xfrm>
            <a:off x="4104360" y="350820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ЛАНЫ НА 202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14"/>
          <p:cNvSpPr/>
          <p:nvPr/>
        </p:nvSpPr>
        <p:spPr>
          <a:xfrm>
            <a:off x="4110120" y="3943440"/>
            <a:ext cx="485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оительство дополнительных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50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станций обезжелезивания (преимущественно в малых населенных пункта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ая соединительная линия 4"/>
          <p:cNvSpPr/>
          <p:nvPr/>
        </p:nvSpPr>
        <p:spPr>
          <a:xfrm>
            <a:off x="579600" y="3435480"/>
            <a:ext cx="813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ая соединительная линия 15"/>
          <p:cNvSpPr/>
          <p:nvPr/>
        </p:nvSpPr>
        <p:spPr>
          <a:xfrm flipV="1">
            <a:off x="3924360" y="3435120"/>
            <a:ext cx="0" cy="1368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2363760" y="3192480"/>
            <a:ext cx="266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жителей старше 16 лет оценивают здоровье как хорошее или удовлетворительн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7"/>
          <p:cNvSpPr/>
          <p:nvPr/>
        </p:nvSpPr>
        <p:spPr>
          <a:xfrm rot="5400000">
            <a:off x="8557920" y="4308480"/>
            <a:ext cx="199800" cy="9716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2347560" y="2649600"/>
            <a:ext cx="145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93,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5587200" y="336384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93,8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7444080" y="336384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93,3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709560" y="684360"/>
            <a:ext cx="79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АМООЦЕНКА ЗДОРОВЬЯ БЕЛОРУСАМИ (2025 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03160" y="117144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По данным Белстата ко Всемирному дню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971640" y="44136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a0a7c"/>
                </a:solidFill>
                <a:latin typeface="Calibri"/>
              </a:rPr>
              <a:t>Здоровье нации – </a:t>
            </a:r>
            <a:br>
              <a:rPr sz="2400"/>
            </a:br>
            <a:r>
              <a:rPr b="1" i="1" lang="ru-RU" sz="2400" spc="-1" strike="noStrike">
                <a:solidFill>
                  <a:srgbClr val="0a0a7c"/>
                </a:solidFill>
                <a:latin typeface="Calibri"/>
              </a:rPr>
              <a:t>это забота не только медиков, но и каждого из нас. Без физической активности, занятий спортом не будет здоровых детей, людей, здоровой нации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-14400" y="-307800"/>
            <a:ext cx="84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0" spc="-1" strike="noStrike">
                <a:solidFill>
                  <a:srgbClr val="182c7f"/>
                </a:solidFill>
                <a:latin typeface="Calibri"/>
              </a:rPr>
              <a:t>“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8"/>
          <p:cNvSpPr/>
          <p:nvPr/>
        </p:nvSpPr>
        <p:spPr>
          <a:xfrm rot="10800000">
            <a:off x="4422600" y="1633680"/>
            <a:ext cx="112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0" spc="-1" strike="noStrike">
                <a:solidFill>
                  <a:srgbClr val="182c7f"/>
                </a:solidFill>
                <a:latin typeface="Calibri"/>
              </a:rPr>
              <a:t>“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14"/>
          <p:cNvSpPr/>
          <p:nvPr/>
        </p:nvSpPr>
        <p:spPr>
          <a:xfrm rot="5400000">
            <a:off x="8346600" y="3954240"/>
            <a:ext cx="295200" cy="12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9"/>
          <p:cNvSpPr/>
          <p:nvPr/>
        </p:nvSpPr>
        <p:spPr>
          <a:xfrm>
            <a:off x="974880" y="3849840"/>
            <a:ext cx="438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182c7f"/>
                </a:solidFill>
                <a:latin typeface="Calibri"/>
              </a:rPr>
              <a:t>Президент Республики Беларусь А.Г.Лукашенко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D:\Академия управления\фото1\фон.jpg"/>
          <p:cNvPicPr/>
          <p:nvPr/>
        </p:nvPicPr>
        <p:blipFill>
          <a:blip r:embed="rId1"/>
          <a:stretch/>
        </p:blipFill>
        <p:spPr>
          <a:xfrm>
            <a:off x="5423040" y="7920"/>
            <a:ext cx="3720960" cy="51436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4"/>
          <p:cNvSpPr/>
          <p:nvPr/>
        </p:nvSpPr>
        <p:spPr>
          <a:xfrm>
            <a:off x="539640" y="696960"/>
            <a:ext cx="7981920" cy="8827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D:\Академия управления\фото1\лого академии.png"/>
          <p:cNvPicPr/>
          <p:nvPr/>
        </p:nvPicPr>
        <p:blipFill>
          <a:blip r:embed="rId2"/>
          <a:stretch/>
        </p:blipFill>
        <p:spPr>
          <a:xfrm>
            <a:off x="2951280" y="855720"/>
            <a:ext cx="2727360" cy="5652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11"/>
          <p:cNvSpPr/>
          <p:nvPr/>
        </p:nvSpPr>
        <p:spPr>
          <a:xfrm rot="5400000">
            <a:off x="7827480" y="3281040"/>
            <a:ext cx="226800" cy="24116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15"/>
          <p:cNvSpPr/>
          <p:nvPr/>
        </p:nvSpPr>
        <p:spPr>
          <a:xfrm>
            <a:off x="4014720" y="2716200"/>
            <a:ext cx="37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истический обзор ко Всемирному дню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1541520" y="1803240"/>
            <a:ext cx="24732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971640" y="376200"/>
            <a:ext cx="7200720" cy="82728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332000" y="558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ЕДИЦИНСКАЯ СИСТЕМА БЕЛАРУСИ (2024 ГО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611280" y="2819520"/>
            <a:ext cx="2665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ДИЦИНСКАЯ ИНФРАСТРУК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5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больниц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 39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поликлиники и амбулатор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9 78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койки краткосрочного пребы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7"/>
          <p:cNvSpPr/>
          <p:nvPr/>
        </p:nvSpPr>
        <p:spPr>
          <a:xfrm rot="5400000">
            <a:off x="8557920" y="4308480"/>
            <a:ext cx="199800" cy="9716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3419640" y="2819520"/>
            <a:ext cx="26650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ДИЦИНСКИЕ КАД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1 46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практикующих врач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11 448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средних медработни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еспеченность данными категориями работников выше, чем в Швейцарии, Болгарии, Литве, Нидерландах, Австрии и Ислан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2"/>
          <p:cNvSpPr/>
          <p:nvPr/>
        </p:nvSpPr>
        <p:spPr>
          <a:xfrm>
            <a:off x="6408720" y="2809800"/>
            <a:ext cx="21240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СТУПНОСТЬ МЕДИЦИ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ам обеспечен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ступ к медуслуг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5292720" y="0"/>
            <a:ext cx="3852720" cy="5159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8"/>
          <p:cNvSpPr/>
          <p:nvPr/>
        </p:nvSpPr>
        <p:spPr>
          <a:xfrm rot="5400000">
            <a:off x="346680" y="4298040"/>
            <a:ext cx="18108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971640" y="0"/>
            <a:ext cx="34596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5651640" y="1522440"/>
            <a:ext cx="3313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роительные работы проводятся на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66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ъектах в рамках Госпрограммы «Здоровье народа и демографическая безопасность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ЛЮЧЕВЫЕ ПРОЕКТ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еконструкция 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НПЦ детской онкологии, иммунологии и гемат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еконструкци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еспубликанской клинической больницы медицинской реабилит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бновление медучреждений в 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Брестской, Витебской и Гродненской област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5651640" y="349200"/>
            <a:ext cx="33130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МОДЕРНИЗАЦИЯ МЕДИЦИНСКОЙ ИНФРАСТРУКТУР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(2025 ГОД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5473800" y="2786040"/>
            <a:ext cx="1429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5491080" y="3724200"/>
            <a:ext cx="1429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5491080" y="4362480"/>
            <a:ext cx="1429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5292720" y="0"/>
            <a:ext cx="3852720" cy="5159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-20520" y="484200"/>
            <a:ext cx="4879800" cy="11779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438120" y="2746440"/>
            <a:ext cx="417672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а 2025 год запланирова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нащение учреждений здравоохранения ещ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alibri"/>
              </a:rPr>
              <a:t>114 единицами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сокотехнологичного медицинского оборуд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5548320" y="693720"/>
            <a:ext cx="345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НА СЕГОДНЯШНИЙ ДЕНЬ ПАРК ВЫСОКОТЕХНОЛОГИЧНОГО ОБОРУДОВАНИЯ СОСТАВЛЯЕТ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311 ЕДИНИ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5877000" y="2284560"/>
            <a:ext cx="31273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мпьютерные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мографы -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170</a:t>
            </a:r>
            <a:br>
              <a:rPr sz="22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гнитно-резонансные томографы -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64</a:t>
            </a:r>
            <a:br>
              <a:rPr sz="22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нгиографы -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52</a:t>
            </a:r>
            <a:br>
              <a:rPr sz="22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нейные ускорители -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3"/>
          <p:cNvSpPr/>
          <p:nvPr/>
        </p:nvSpPr>
        <p:spPr>
          <a:xfrm>
            <a:off x="5703840" y="2408400"/>
            <a:ext cx="14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5703840" y="3046320"/>
            <a:ext cx="1429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5"/>
          <p:cNvSpPr/>
          <p:nvPr/>
        </p:nvSpPr>
        <p:spPr>
          <a:xfrm>
            <a:off x="5699160" y="3683160"/>
            <a:ext cx="14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6"/>
          <p:cNvSpPr/>
          <p:nvPr/>
        </p:nvSpPr>
        <p:spPr>
          <a:xfrm>
            <a:off x="5697360" y="4022640"/>
            <a:ext cx="144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9"/>
          <p:cNvSpPr/>
          <p:nvPr/>
        </p:nvSpPr>
        <p:spPr>
          <a:xfrm>
            <a:off x="438120" y="590400"/>
            <a:ext cx="4146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ПЛАНОВОЕ ОСНАЩЕНИЕ ВЫСОКОТЕХНОЛОГИЧНЫМ ОБОРУДОВАНИЕМ ВСЕХ ТЕРРИТОР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5292720" y="0"/>
            <a:ext cx="3852720" cy="5159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 rot="5400000">
            <a:off x="347040" y="4291920"/>
            <a:ext cx="18072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971640" y="0"/>
            <a:ext cx="34596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2158920" y="87012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82c7f"/>
                </a:solidFill>
                <a:latin typeface="Calibri"/>
              </a:rPr>
              <a:t>1 8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5548320" y="484200"/>
            <a:ext cx="345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БЕЛОРУССКАЯ ФАРМАЦЕВТИКА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В 2024 ГО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5877000" y="2284560"/>
            <a:ext cx="312732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регистрировано 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67 новых препар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50%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рынка - доля отечественных лекарств в стоимостном выражении </a:t>
            </a:r>
            <a:r>
              <a:rPr b="0" i="1" lang="ru-RU" sz="17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700" spc="-1" strike="noStrike">
                <a:solidFill>
                  <a:srgbClr val="ffffff"/>
                </a:solidFill>
                <a:latin typeface="Calibri"/>
              </a:rPr>
              <a:t>самый высокий </a:t>
            </a:r>
            <a:r>
              <a:rPr b="0" i="1" lang="ru-RU" sz="1700" spc="-1" strike="noStrike">
                <a:solidFill>
                  <a:srgbClr val="ffffff"/>
                </a:solidFill>
                <a:latin typeface="Calibri"/>
              </a:rPr>
              <a:t>показатель в сравнении с сопредельными странами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703840" y="2408400"/>
            <a:ext cx="14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5703840" y="3335400"/>
            <a:ext cx="14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7"/>
          <p:cNvSpPr/>
          <p:nvPr/>
        </p:nvSpPr>
        <p:spPr>
          <a:xfrm>
            <a:off x="2195640" y="1442880"/>
            <a:ext cx="2808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a7c"/>
                </a:solidFill>
                <a:latin typeface="Calibri"/>
              </a:rPr>
              <a:t>наименований лекарственных сред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8"/>
          <p:cNvSpPr/>
          <p:nvPr/>
        </p:nvSpPr>
        <p:spPr>
          <a:xfrm>
            <a:off x="2087640" y="3003480"/>
            <a:ext cx="29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0a7c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0a0a7c"/>
                </a:solidFill>
                <a:latin typeface="Calibri"/>
              </a:rPr>
              <a:t>более</a:t>
            </a:r>
            <a:r>
              <a:rPr b="1" lang="ru-RU" sz="4000" spc="-1" strike="noStrike">
                <a:solidFill>
                  <a:srgbClr val="0a0a7c"/>
                </a:solidFill>
                <a:latin typeface="Calibri"/>
              </a:rPr>
              <a:t> 7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9"/>
          <p:cNvSpPr/>
          <p:nvPr/>
        </p:nvSpPr>
        <p:spPr>
          <a:xfrm>
            <a:off x="2195640" y="3535200"/>
            <a:ext cx="3024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a7c"/>
                </a:solidFill>
                <a:latin typeface="Calibri"/>
              </a:rPr>
              <a:t>препаратов </a:t>
            </a:r>
            <a:br>
              <a:rPr sz="2000"/>
            </a:br>
            <a:r>
              <a:rPr b="0" lang="ru-RU" sz="2000" spc="-1" strike="noStrike">
                <a:solidFill>
                  <a:srgbClr val="0a0a7c"/>
                </a:solidFill>
                <a:latin typeface="Calibri"/>
              </a:rPr>
              <a:t>производится холдинг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 rot="5400000">
            <a:off x="347040" y="4291920"/>
            <a:ext cx="18072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971640" y="0"/>
            <a:ext cx="34596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8"/>
          <p:cNvSpPr/>
          <p:nvPr/>
        </p:nvSpPr>
        <p:spPr>
          <a:xfrm rot="5400000">
            <a:off x="347040" y="4291920"/>
            <a:ext cx="18072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971640" y="0"/>
            <a:ext cx="34596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1"/>
          <p:cNvSpPr/>
          <p:nvPr/>
        </p:nvSpPr>
        <p:spPr>
          <a:xfrm>
            <a:off x="3381480" y="484200"/>
            <a:ext cx="54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a0a7c"/>
                </a:solidFill>
                <a:latin typeface="Calibri"/>
              </a:rPr>
              <a:t>ТУРИСТИЧЕСКИЕ ПРЕДПОЧТЕНИЯ БЕЛОРУСОВ (2024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7"/>
          <p:cNvSpPr/>
          <p:nvPr/>
        </p:nvSpPr>
        <p:spPr>
          <a:xfrm rot="10800000">
            <a:off x="244440" y="4803840"/>
            <a:ext cx="200160" cy="349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18"/>
          <p:cNvSpPr/>
          <p:nvPr/>
        </p:nvSpPr>
        <p:spPr>
          <a:xfrm rot="5400000">
            <a:off x="8613720" y="44280"/>
            <a:ext cx="199800" cy="8604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333520" y="2355840"/>
            <a:ext cx="3894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наторно-курортный комплекс Беларуси состоит из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87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организаций оздоро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700360" y="439560"/>
            <a:ext cx="594216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a0a7c"/>
                </a:solidFill>
                <a:latin typeface="Calibri"/>
              </a:rPr>
              <a:t>Лечебно-оздоровительный комплекс Беларуси представлен санаторно-курортными и оздоровительными организац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971640" y="343548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97 санаторно-курортных организаций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27,7 тыс. мест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190 оздоровительных организаций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33,3 тыс. ме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15"/>
          <p:cNvSpPr/>
          <p:nvPr/>
        </p:nvSpPr>
        <p:spPr>
          <a:xfrm rot="10800000">
            <a:off x="765000" y="3549600"/>
            <a:ext cx="206640" cy="2462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16"/>
          <p:cNvSpPr/>
          <p:nvPr/>
        </p:nvSpPr>
        <p:spPr>
          <a:xfrm rot="10800000">
            <a:off x="765000" y="4062240"/>
            <a:ext cx="206640" cy="2462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240" y="-64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5292720" y="0"/>
            <a:ext cx="3876840" cy="5159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8"/>
          <p:cNvSpPr/>
          <p:nvPr/>
        </p:nvSpPr>
        <p:spPr>
          <a:xfrm rot="5400000">
            <a:off x="347040" y="4291920"/>
            <a:ext cx="18072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971640" y="0"/>
            <a:ext cx="34596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2"/>
          <p:cNvSpPr/>
          <p:nvPr/>
        </p:nvSpPr>
        <p:spPr>
          <a:xfrm>
            <a:off x="5803920" y="633240"/>
            <a:ext cx="3160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 2024 году 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бесплатными или удешевленными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путевками были обеспечены 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более 807 тыс. человек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Около половины всего детского населения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 Республики Беларусь (более 728 тыс. детей) в 2024 году были охвачены лечебно-оздоровительными услуга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5630760" y="771480"/>
            <a:ext cx="144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5630760" y="2508120"/>
            <a:ext cx="1447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24T10:48:12Z</dcterms:created>
  <dc:creator>Александр</dc:creator>
  <dc:description/>
  <dc:language>en-US</dc:language>
  <cp:lastModifiedBy>Пользователь Windows</cp:lastModifiedBy>
  <dcterms:modified xsi:type="dcterms:W3CDTF">2025-05-14T12:29:27Z</dcterms:modified>
  <cp:revision>4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700000000000102a3110207f7000400038000</vt:lpwstr>
  </property>
</Properties>
</file>